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60B2-6983-4A16-85C6-38D556F23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8A24-8708-4942-A8B3-62E83A35F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FCB2-2263-4149-9FFE-A119F8002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794F-E6DC-4545-8357-E37C24251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ED137-2CCA-447C-BADA-6FCD03067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51417-26B8-488E-876A-49C9E28F3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B29EE-6985-43E7-8AF6-8070E67A3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7D069-0CAE-404C-BE52-96CF3C484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76674-52CF-404F-B179-50FE3464B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41150-12EF-489F-9F42-CFF0EFBB5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D0059-426A-45E3-AEDC-692CC2CC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9AEF-9C53-4238-A575-938A049B2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5895F-325F-4F2F-86B8-61C616D2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4DE0E-CA7D-4557-B814-AD90FB98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F7060-7D79-48D5-BE45-FB6590FA2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E2353-A943-4C67-884A-B7C05BF04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49ADC-29A4-4CF3-8582-ACA43E7F7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0CDF04-9665-4E15-81EF-D75AB4026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81377C-F925-49F4-891E-4B0CCA686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92BA16-0B2F-4740-9BD2-A065FAA75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AFE231-1CBB-4269-A07D-D6CE06914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74B08F-8B83-48A8-B082-C26C8B63B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0031-6B08-4B6E-9208-29B95D838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AACFB4-0F5E-41D2-83D0-9A14F918E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A82FF1-671F-4FCC-A772-B4025F59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7C8533-2A1A-458D-AEB9-419A74CD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88D4FA-6411-443D-992C-AB91A1E4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1E78D5-D079-4A3B-8DE7-9623B4EDB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8A89C3-C207-4BDC-B205-7071A73BE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AA4535-7E35-41BC-A3A9-169752A19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D7F48-A0F6-498B-A554-35409C8B3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6642F-04D4-4021-806F-702432145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5B9CD-91E5-406C-A193-F5E6DAD5F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C522-0741-49FB-A1BD-7487CDFB6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995D8-E6FC-44C5-B14E-D8A3FAC41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57B28-B325-426B-8AEF-37796947D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DA1B4-FEB2-4508-8068-2F9717FC1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76C90-2871-4B0B-9DC3-18217433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85DA6-CB99-4CF6-9060-D32BAE9B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E5D7F-0784-4C7B-AC3B-73EDA619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67B3B-3A4B-40F0-B014-9EDCB7F7A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C3DCC-666D-4885-815A-CD8B1A6F1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BA555-2D66-4530-A657-DFC0676D2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8B4B-C174-43C2-9A1C-62226F34E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334F-DB92-498A-AEBD-8DD8A129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FFB4-596E-4234-A605-DAEE5894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5D00-FFB9-459E-BF25-1E70F03D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F301-FB8D-427E-8DFE-65E62BDE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AB080-8C67-43E9-9417-B3F53927FD20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6CF7F-8F70-4A9E-96C3-BF3466597C1C}" type="slidenum">
              <a:rPr b="0" lang="el-GR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B4856-1634-496B-AFBD-FE0074B109EB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69A9D-DFF2-4801-A1BB-FAC4B33285C2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eri-grafis.com/spaw2/uploads/images/dali18.jpg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ΠΟΙΗΜΑΤΑ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6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424242"/>
                </a:solidFill>
                <a:latin typeface="Arial"/>
                <a:ea typeface="Arial"/>
              </a:rPr>
              <a:t>Τρία Χαϊκού, Γ. Σεφέρης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IA</a:t>
            </a: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9" name="Εικόνα 1" descr=""/>
          <p:cNvPicPr/>
          <p:nvPr/>
        </p:nvPicPr>
        <p:blipFill>
          <a:blip r:embed="rId1"/>
          <a:srcRect l="19494" t="0" r="19494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Πού να μαζεύ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α χίλια κομματάκια 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υ κάθε ανθρώπου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ΙΕ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2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Βουλιάζει ο κόσμο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κρατήσου, θα σ' αφήσει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μόνο στον ήλιο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835280" y="4869000"/>
            <a:ext cx="5486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         </a:t>
            </a:r>
            <a:br>
              <a:rPr sz="2500"/>
            </a:b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ΙΣΤ΄</a:t>
            </a:r>
            <a:endParaRPr b="0" lang="en-US" sz="25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5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Γράφ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 μελάνι λιγόστεψ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η θάλασσα πληθαίνει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 u="sng">
                <a:solidFill>
                  <a:srgbClr val="e68200"/>
                </a:solidFill>
                <a:uFillTx/>
                <a:latin typeface="Calibri"/>
                <a:hlinkClick r:id="rId1"/>
              </a:rPr>
              <a:t>http://www.peri-grafis.com/spaw2/uploads/images/dali18.jpg</a:t>
            </a:r>
            <a:endParaRPr b="0" lang="en-US" sz="29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23:23:45Z</dcterms:created>
  <dc:creator>ΓΙΩΡΓΟΣ   ΔΕΣΠΟΙΝΑ</dc:creator>
  <dc:description/>
  <dc:language>en-US</dc:language>
  <cp:lastModifiedBy>giorgos</cp:lastModifiedBy>
  <dcterms:modified xsi:type="dcterms:W3CDTF">2012-03-25T17:17:28Z</dcterms:modified>
  <cp:revision>3</cp:revision>
  <dc:subject/>
  <dc:title>(πίνακας του Νταλί)</dc:title>
</cp:coreProperties>
</file>